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9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0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9144000" y="266760"/>
            <a:ext cx="344160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0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8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6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4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IP Federation 101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ederation of Earth Science Information Partn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165240" y="7873920"/>
            <a:ext cx="54864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et ESIP’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Ongoing activitie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luste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rt a new one!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Working group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mmitte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wice-yearly meeting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tten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xt: January 4 – 6, 2012 Washington, DC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sent a talk or poster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hair a sess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Partnership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Joi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nvite your colleagu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Host a summer meet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onsider ‘running’ for offic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Key Contac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SIP Elected Officials (annual)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sident – Chris Lenhardt (2011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ice-President – Karl Benedict (2011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SIP type representativ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mittee chai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undation for Earth Scienc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xecutive Director – Carol Meye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formation and Virtual Community Director – Erin Robins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IP Onlin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me pa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http://esipfed.or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iki (primary collaborative spac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http://wiki.esipfed.or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acebook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tinyurl.com/esip-faceboo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witte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#esipf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lobal Change Master Directo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ESIP data port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ESIP services port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45760" y="50036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ignett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ir Quality (AQ) Cluster starts, eventually becomes a Working Group and becomes the GEO AQ Community of Practic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Q cluster submits a mini-grant proposal to fund development of a twitter feed aggregator that monitored air quality even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KML translator developed by ESIP member to convert geospatial data into KML for rendering into Google Earth. Translator code gets picked up and reused by other member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Discovery Cluster forms to look at data search, retrieval and access services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oal is to review existing services to assess commonalities, differences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veloped a governance model that allowed for community review, comment of existing service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ulting in community-based conventions related to data discove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ao of ESIP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We are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..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➜ </a:t>
            </a: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Community-drive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969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embers are the author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969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olunta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220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 requiremen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220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 remunerat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2200" indent="-2613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or the good of the order</a:t>
            </a: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969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220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eographical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220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pical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220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unctional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969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pe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220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legial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220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utral forum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We value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..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rticip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hare your expertis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everage others’ expertis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courage free flow of idea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ＭＳ Ｐゴシック"/>
              </a:rPr>
              <a:t>Exposure → opportuniti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llabo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mmunities of practice</a:t>
            </a: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nov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 institutional barri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5560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ults for $5K!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Hybrid virtual and ‘real’ organiz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ision Pillars ( 20110712 DRAFT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provides the Earth science informatics intellectual commons to drive innovat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is the trusted community authority that supports the integration of science and data into mainstream use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leads the development of the science data information profess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achieves sustainability through diversification, global partnerships and partner recognit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rmed in 1998 by NAS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tional Academy report recommended the creation of a fede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24 original </a:t>
            </a:r>
            <a:r>
              <a:rPr b="0" lang="ja-JP" sz="28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orking Prototypes-ESIPs</a:t>
            </a:r>
            <a:r>
              <a:rPr b="0" lang="ja-JP" sz="2800" spc="-1" strike="noStrike">
                <a:solidFill>
                  <a:srgbClr val="60606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72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2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72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2 applicat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ter expanded to include NASA DAAC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4" marL="3344400" indent="0">
              <a:spcBef>
                <a:spcPts val="6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titutional Convention</a:t>
            </a:r>
            <a:r>
              <a:rPr b="0" lang="ja-JP" sz="3400" spc="-1" strike="noStrike">
                <a:solidFill>
                  <a:srgbClr val="606060"/>
                </a:solidFill>
                <a:latin typeface="Arial"/>
              </a:rPr>
              <a:t>”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(1999-2000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stitution and Bylaw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4" marL="3344400" indent="0">
              <a:spcBef>
                <a:spcPts val="6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ndation for Earth Science (2001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nprofit 501(c)(3) corpo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Federation</a:t>
            </a:r>
            <a:r>
              <a:rPr b="0" lang="ja-JP" sz="2800" spc="-1" strike="noStrike">
                <a:solidFill>
                  <a:srgbClr val="60606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 secretaria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artner Typ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: data center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SA DAAC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OAA (NGDC, NODC, NCDC)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I: researchers and tool developers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ademi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Government lab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349680" y="23623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II: application developer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mmercia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onprofi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ducationa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V: strategic partner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S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OA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P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overna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ssembly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1 partner, 1 vot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nnual meeting in J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eadership elected from Assembly representativ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ommitte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hair elected by Assembl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hair serves on</a:t>
            </a:r>
            <a:br>
              <a:rPr sz="3200"/>
            </a:b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xecutive Committe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orking group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reated by</a:t>
            </a:r>
            <a:br>
              <a:rPr sz="3200"/>
            </a:b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ssembly or Committe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ask-oriente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luster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lf-form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r any reas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nds when the last person hangs up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58360" y="2133720"/>
            <a:ext cx="59310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tanding Committe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duc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Information Technology and Interoperabi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Products and Servi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Helvetica Neue"/>
              </a:rPr>
              <a:t>Commercial Develop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Helvetica Neue"/>
              </a:rPr>
              <a:t>Community Engage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dministrative Committe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stitution and Bylaw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nance and Appropri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rtnershi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578280" y="21337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Working group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ir Qua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limate Educ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isione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luste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erg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cis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ederated Search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fo Qua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servation &amp; Stewardshi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mantic Web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isualiz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et ESIP’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See ESIP Federation community engagement opportunities in your packet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Sign up during poster sess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Talk to committee, working group, cluster leads (black ribbons)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Open invitation to get involved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. Christopher Lenhardt</cp:lastModifiedBy>
  <dcterms:modified xsi:type="dcterms:W3CDTF">2011-07-12T23:43:12Z</dcterms:modified>
  <cp:revision>26</cp:revision>
  <dc:subject/>
  <dc:title>ESIP Federation 101</dc:title>
</cp:coreProperties>
</file>